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BDD-BEC1-468C-8CA6-2C1C4721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806-8D5F-4F91-A8D2-D98D000B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4D9-FC10-441B-8114-A9F20809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69B-7756-46FC-BDA6-B22A9029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AAD-8FD0-4441-A07F-4674FAA6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BB5-AE67-4948-93FF-FDC1926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AB2-4B2F-45A4-899C-0DFA32F4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19B-A433-470C-93DA-9C03A518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DCF-1A44-427B-9F65-C2EEEF39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1DA-F912-4B13-8D34-ABEB9AED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87B-4765-4041-95C3-FAC4C44A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0C8-1925-4418-93D8-1630827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C80F-CDAB-4E67-8230-7E2EFB130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362320"/>
            <a:ext cx="6629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Gothic"/>
              </a:rPr>
              <a:t>Mi Cuarto Ideal</a:t>
            </a:r>
            <a:endParaRPr b="0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1371600"/>
            <a:ext cx="1218960" cy="3070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l tele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4343400"/>
            <a:ext cx="990720" cy="3682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 c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6172200"/>
            <a:ext cx="129564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 alfom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343400"/>
            <a:ext cx="990720" cy="3682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 c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4038480"/>
            <a:ext cx="121932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 com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2743200"/>
            <a:ext cx="1447920" cy="29196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 despertad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27920" y="391464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391160" y="3048120"/>
            <a:ext cx="609480" cy="380880"/>
          </a:xfrm>
          <a:prstGeom prst="line">
            <a:avLst/>
          </a:prstGeom>
          <a:ln w="38160">
            <a:solidFill>
              <a:srgbClr val="791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04920"/>
            <a:ext cx="121932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os cuad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52280"/>
            <a:ext cx="1447560" cy="3070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s lampa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657600"/>
            <a:ext cx="12189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l esta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80880"/>
            <a:ext cx="137160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54b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as vent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133720"/>
            <a:ext cx="761760" cy="276480"/>
          </a:xfrm>
          <a:prstGeom prst="rect">
            <a:avLst/>
          </a:prstGeom>
          <a:solidFill>
            <a:srgbClr val="fdcbfd"/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l so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6524640"/>
            <a:ext cx="762120" cy="307080"/>
          </a:xfrm>
          <a:prstGeom prst="rect">
            <a:avLst/>
          </a:prstGeom>
          <a:solidFill>
            <a:srgbClr val="fdcbfd"/>
          </a:solidFill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l p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19:51Z</dcterms:created>
  <dc:creator>vrenda09</dc:creator>
  <dc:description/>
  <dc:language>en-US</dc:language>
  <cp:lastModifiedBy>Readington Township Board of Education</cp:lastModifiedBy>
  <dcterms:modified xsi:type="dcterms:W3CDTF">2009-05-12T16:30:21Z</dcterms:modified>
  <cp:revision>10</cp:revision>
  <dc:subject/>
  <dc:title>Slide 1</dc:title>
</cp:coreProperties>
</file>